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D966-0AF1-4298-A4ED-77C0A6DCF4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7E0-4B18-4F30-AAC9-C97BE09E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C8A-246A-4386-8893-1B462235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3FE-7538-4E56-BD41-C10D4BBD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DAB-0C01-4D1F-925E-BB7260B7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CDD-E49E-41D9-98C6-CF08857C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B05-7D35-4D53-B690-82580270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52E-E43D-4CB2-8274-5595F483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EF6-A168-4BA3-842E-376E61DB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8D0-C141-498F-BD4B-86585901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7E3-E760-4391-832F-849A9126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234-C581-4991-813C-141D6756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2C3-E072-4121-8199-E5ADC37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3899-94D6-47AD-9AB6-84CED652D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44560" y="23763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Choose the pair that adds up to the middle co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417480" y="131112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14920" y="237960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9"/>
          <p:cNvSpPr/>
          <p:nvPr/>
        </p:nvSpPr>
        <p:spPr>
          <a:xfrm>
            <a:off x="6172200" y="3398760"/>
            <a:ext cx="912960" cy="60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839880" y="413532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Fill those numbers into the blanks in the bi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5134680" y="45403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6062760" y="457992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7437600" y="457524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2241720" y="5721480"/>
            <a:ext cx="5260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 = ( x + 3)( x +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630440" y="1244520"/>
            <a:ext cx="57452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.   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1508040" y="1922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90520" y="2465280"/>
            <a:ext cx="43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-24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o get -24, one number must be positive and one nega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5326200" y="2541600"/>
            <a:ext cx="3558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5840" y="462600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6994440" y="4168800"/>
            <a:ext cx="1055880" cy="517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81160" y="53197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rite the binomial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4988880" y="5470560"/>
            <a:ext cx="368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 = ( x - 4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450720" y="390528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130800" y="2935440"/>
            <a:ext cx="1676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446040" y="534996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8"/>
          <p:cNvSpPr/>
          <p:nvPr/>
        </p:nvSpPr>
        <p:spPr>
          <a:xfrm>
            <a:off x="6691320" y="3454560"/>
            <a:ext cx="1055520" cy="517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446040" y="283536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8 = 24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7"/>
          <p:cNvSpPr/>
          <p:nvPr/>
        </p:nvSpPr>
        <p:spPr>
          <a:xfrm>
            <a:off x="5472000" y="5730840"/>
            <a:ext cx="32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( 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6318360" y="2390760"/>
            <a:ext cx="44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47840" y="3390840"/>
            <a:ext cx="43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Put the original leading coefficient (3) under both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505480" y="2398680"/>
            <a:ext cx="294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07880" y="4800600"/>
            <a:ext cx="48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duce the fractions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385920" y="57913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Move denominators in front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465120" y="2333520"/>
            <a:ext cx="43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Write temporary factors with the two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7553160" y="2403360"/>
            <a:ext cx="60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6"/>
          <p:cNvGrpSpPr/>
          <p:nvPr/>
        </p:nvGrpSpPr>
        <p:grpSpPr>
          <a:xfrm>
            <a:off x="6313320" y="2752560"/>
            <a:ext cx="441360" cy="489960"/>
            <a:chOff x="6313320" y="2752560"/>
            <a:chExt cx="441360" cy="489960"/>
          </a:xfrm>
        </p:grpSpPr>
        <p:sp>
          <p:nvSpPr>
            <p:cNvPr id="513" name="Text Box 15"/>
            <p:cNvSpPr/>
            <p:nvPr/>
          </p:nvSpPr>
          <p:spPr>
            <a:xfrm>
              <a:off x="6313320" y="27525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6332400" y="279072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7"/>
          <p:cNvGrpSpPr/>
          <p:nvPr/>
        </p:nvGrpSpPr>
        <p:grpSpPr>
          <a:xfrm>
            <a:off x="7635960" y="2747880"/>
            <a:ext cx="441360" cy="489960"/>
            <a:chOff x="7635960" y="2747880"/>
            <a:chExt cx="441360" cy="489960"/>
          </a:xfrm>
        </p:grpSpPr>
        <p:sp>
          <p:nvSpPr>
            <p:cNvPr id="516" name="Text Box 18"/>
            <p:cNvSpPr/>
            <p:nvPr/>
          </p:nvSpPr>
          <p:spPr>
            <a:xfrm>
              <a:off x="7635960" y="274788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>
              <a:off x="7655040" y="278568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5499000" y="3789360"/>
            <a:ext cx="2946240" cy="851760"/>
            <a:chOff x="5499000" y="3789360"/>
            <a:chExt cx="2946240" cy="851760"/>
          </a:xfrm>
        </p:grpSpPr>
        <p:sp>
          <p:nvSpPr>
            <p:cNvPr id="519" name="Text Box 20"/>
            <p:cNvSpPr/>
            <p:nvPr/>
          </p:nvSpPr>
          <p:spPr>
            <a:xfrm>
              <a:off x="6311880" y="37893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499000" y="3797280"/>
              <a:ext cx="2946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22"/>
            <p:cNvSpPr/>
            <p:nvPr/>
          </p:nvSpPr>
          <p:spPr>
            <a:xfrm>
              <a:off x="7546680" y="380196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23"/>
            <p:cNvGrpSpPr/>
            <p:nvPr/>
          </p:nvGrpSpPr>
          <p:grpSpPr>
            <a:xfrm>
              <a:off x="6306840" y="4151160"/>
              <a:ext cx="441360" cy="489960"/>
              <a:chOff x="6306840" y="4151160"/>
              <a:chExt cx="441360" cy="489960"/>
            </a:xfrm>
          </p:grpSpPr>
          <p:sp>
            <p:nvSpPr>
              <p:cNvPr id="523" name="Text Box 24"/>
              <p:cNvSpPr/>
              <p:nvPr/>
            </p:nvSpPr>
            <p:spPr>
              <a:xfrm>
                <a:off x="6306840" y="415116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25"/>
              <p:cNvSpPr/>
              <p:nvPr/>
            </p:nvSpPr>
            <p:spPr>
              <a:xfrm>
                <a:off x="6325920" y="41893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6"/>
            <p:cNvGrpSpPr/>
            <p:nvPr/>
          </p:nvGrpSpPr>
          <p:grpSpPr>
            <a:xfrm>
              <a:off x="7629480" y="4146480"/>
              <a:ext cx="441360" cy="489960"/>
              <a:chOff x="7629480" y="4146480"/>
              <a:chExt cx="441360" cy="489960"/>
            </a:xfrm>
          </p:grpSpPr>
          <p:sp>
            <p:nvSpPr>
              <p:cNvPr id="526" name="Text Box 27"/>
              <p:cNvSpPr/>
              <p:nvPr/>
            </p:nvSpPr>
            <p:spPr>
              <a:xfrm>
                <a:off x="7629480" y="414648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8"/>
              <p:cNvSpPr/>
              <p:nvPr/>
            </p:nvSpPr>
            <p:spPr>
              <a:xfrm>
                <a:off x="7648560" y="418428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Line 30"/>
          <p:cNvSpPr/>
          <p:nvPr/>
        </p:nvSpPr>
        <p:spPr>
          <a:xfrm flipH="1">
            <a:off x="7600680" y="3827520"/>
            <a:ext cx="33948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31"/>
          <p:cNvSpPr/>
          <p:nvPr/>
        </p:nvSpPr>
        <p:spPr>
          <a:xfrm flipH="1">
            <a:off x="7613640" y="4189320"/>
            <a:ext cx="33984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2"/>
          <p:cNvSpPr/>
          <p:nvPr/>
        </p:nvSpPr>
        <p:spPr>
          <a:xfrm>
            <a:off x="7618320" y="3454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44"/>
          <p:cNvGrpSpPr/>
          <p:nvPr/>
        </p:nvGrpSpPr>
        <p:grpSpPr>
          <a:xfrm>
            <a:off x="5479920" y="4756320"/>
            <a:ext cx="2946600" cy="851760"/>
            <a:chOff x="5479920" y="4756320"/>
            <a:chExt cx="2946600" cy="851760"/>
          </a:xfrm>
        </p:grpSpPr>
        <p:sp>
          <p:nvSpPr>
            <p:cNvPr id="532" name="Text Box 33"/>
            <p:cNvSpPr/>
            <p:nvPr/>
          </p:nvSpPr>
          <p:spPr>
            <a:xfrm>
              <a:off x="6292800" y="475632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34"/>
            <p:cNvSpPr/>
            <p:nvPr/>
          </p:nvSpPr>
          <p:spPr>
            <a:xfrm>
              <a:off x="5479920" y="4764240"/>
              <a:ext cx="2946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>
              <a:off x="7527960" y="476892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36"/>
            <p:cNvGrpSpPr/>
            <p:nvPr/>
          </p:nvGrpSpPr>
          <p:grpSpPr>
            <a:xfrm>
              <a:off x="6288120" y="5118120"/>
              <a:ext cx="441360" cy="489960"/>
              <a:chOff x="6288120" y="5118120"/>
              <a:chExt cx="441360" cy="489960"/>
            </a:xfrm>
          </p:grpSpPr>
          <p:sp>
            <p:nvSpPr>
              <p:cNvPr id="536" name="Text Box 37"/>
              <p:cNvSpPr/>
              <p:nvPr/>
            </p:nvSpPr>
            <p:spPr>
              <a:xfrm>
                <a:off x="6288120" y="511812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38"/>
              <p:cNvSpPr/>
              <p:nvPr/>
            </p:nvSpPr>
            <p:spPr>
              <a:xfrm>
                <a:off x="6307200" y="51559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6640" y="3741840"/>
            <a:ext cx="26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630440" y="145404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568440" y="247644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8"/>
          <p:cNvSpPr/>
          <p:nvPr/>
        </p:nvSpPr>
        <p:spPr>
          <a:xfrm>
            <a:off x="3510000" y="4322880"/>
            <a:ext cx="249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 14 x +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9"/>
          <p:cNvSpPr/>
          <p:nvPr/>
        </p:nvSpPr>
        <p:spPr>
          <a:xfrm>
            <a:off x="3511800" y="3743280"/>
            <a:ext cx="42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5935680" y="4344840"/>
            <a:ext cx="4651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1"/>
          <p:cNvSpPr/>
          <p:nvPr/>
        </p:nvSpPr>
        <p:spPr>
          <a:xfrm>
            <a:off x="2082960" y="5364000"/>
            <a:ext cx="492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 = (3x + 2)(x +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1x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450720" y="348624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6130800" y="265572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446040" y="479124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446040" y="260820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4 = 12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1231920" y="5580000"/>
            <a:ext cx="65102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ne of the pairs add up to 11, this trinomial can’t be factored; it i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IM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304920" y="11304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tch out for sig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921040" y="2763720"/>
            <a:ext cx="320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x + 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10x +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x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 These Trinomial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4838760" y="301680"/>
            <a:ext cx="243504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630600" y="194940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509760" y="30510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9"/>
          <p:cNvSpPr/>
          <p:nvPr/>
        </p:nvSpPr>
        <p:spPr>
          <a:xfrm>
            <a:off x="3613320" y="227340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517680" y="3738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2556000" y="4906800"/>
            <a:ext cx="3917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4t – 21 = (t + 3)(t -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2x + 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630600" y="1949400"/>
            <a:ext cx="21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09760" y="31734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7"/>
          <p:cNvSpPr/>
          <p:nvPr/>
        </p:nvSpPr>
        <p:spPr>
          <a:xfrm>
            <a:off x="3613320" y="266544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17680" y="386064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2556000" y="4906800"/>
            <a:ext cx="4632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2x + 32 = (x + 4)(x +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10x +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630600" y="19494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7"/>
          <p:cNvSpPr/>
          <p:nvPr/>
        </p:nvSpPr>
        <p:spPr>
          <a:xfrm>
            <a:off x="5419800" y="305280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17680" y="5043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2573280" y="583740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10x + 24 = (x - 4)(x -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4346640" y="3597120"/>
            <a:ext cx="45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5424480" y="19620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1 •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2 •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3 • 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4 •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2"/>
          <p:cNvSpPr/>
          <p:nvPr/>
        </p:nvSpPr>
        <p:spPr>
          <a:xfrm>
            <a:off x="2971800" y="2666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FOIL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8"/>
          <p:cNvSpPr/>
          <p:nvPr/>
        </p:nvSpPr>
        <p:spPr>
          <a:xfrm>
            <a:off x="32767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9"/>
          <p:cNvSpPr/>
          <p:nvPr/>
        </p:nvSpPr>
        <p:spPr>
          <a:xfrm>
            <a:off x="4419720" y="3200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0"/>
          <p:cNvSpPr/>
          <p:nvPr/>
        </p:nvSpPr>
        <p:spPr>
          <a:xfrm>
            <a:off x="5638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781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2"/>
          <p:cNvSpPr/>
          <p:nvPr/>
        </p:nvSpPr>
        <p:spPr>
          <a:xfrm>
            <a:off x="3048120" y="3992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 + 3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3"/>
          <p:cNvSpPr/>
          <p:nvPr/>
        </p:nvSpPr>
        <p:spPr>
          <a:xfrm>
            <a:off x="3048120" y="50594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4"/>
          <p:cNvSpPr/>
          <p:nvPr/>
        </p:nvSpPr>
        <p:spPr>
          <a:xfrm>
            <a:off x="668160" y="26668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x -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30600" y="1949400"/>
            <a:ext cx="21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7"/>
          <p:cNvSpPr/>
          <p:nvPr/>
        </p:nvSpPr>
        <p:spPr>
          <a:xfrm>
            <a:off x="4437000" y="265896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514440" y="45450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"/>
          <p:cNvSpPr/>
          <p:nvPr/>
        </p:nvSpPr>
        <p:spPr>
          <a:xfrm>
            <a:off x="2430360" y="549756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x - 18 = (x - 3)(x + 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x -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43560" y="1378080"/>
            <a:ext cx="217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533232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2340000" y="596268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 - 21 = (x - 3)(2x +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4"/>
          <p:cNvGrpSpPr/>
          <p:nvPr/>
        </p:nvGrpSpPr>
        <p:grpSpPr>
          <a:xfrm>
            <a:off x="5222880" y="3508200"/>
            <a:ext cx="411120" cy="459720"/>
            <a:chOff x="5222880" y="3508200"/>
            <a:chExt cx="411120" cy="459720"/>
          </a:xfrm>
        </p:grpSpPr>
        <p:sp>
          <p:nvSpPr>
            <p:cNvPr id="610" name="Text Box 13"/>
            <p:cNvSpPr/>
            <p:nvPr/>
          </p:nvSpPr>
          <p:spPr>
            <a:xfrm>
              <a:off x="522288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2"/>
            <p:cNvSpPr/>
            <p:nvPr/>
          </p:nvSpPr>
          <p:spPr>
            <a:xfrm>
              <a:off x="525924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15"/>
          <p:cNvGrpSpPr/>
          <p:nvPr/>
        </p:nvGrpSpPr>
        <p:grpSpPr>
          <a:xfrm>
            <a:off x="6143760" y="3503520"/>
            <a:ext cx="411120" cy="459720"/>
            <a:chOff x="6143760" y="3503520"/>
            <a:chExt cx="411120" cy="459720"/>
          </a:xfrm>
        </p:grpSpPr>
        <p:sp>
          <p:nvSpPr>
            <p:cNvPr id="613" name="Text Box 16"/>
            <p:cNvSpPr/>
            <p:nvPr/>
          </p:nvSpPr>
          <p:spPr>
            <a:xfrm>
              <a:off x="61437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7"/>
            <p:cNvSpPr/>
            <p:nvPr/>
          </p:nvSpPr>
          <p:spPr>
            <a:xfrm>
              <a:off x="61801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26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17" name="Text Box 19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- 6)( x + 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20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19" name="Text Box 21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22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Group 23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22" name="Text Box 24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5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Line 27"/>
          <p:cNvSpPr/>
          <p:nvPr/>
        </p:nvSpPr>
        <p:spPr>
          <a:xfrm flipH="1">
            <a:off x="5240160" y="4525920"/>
            <a:ext cx="21456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8"/>
          <p:cNvSpPr/>
          <p:nvPr/>
        </p:nvSpPr>
        <p:spPr>
          <a:xfrm flipH="1">
            <a:off x="525276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9"/>
          <p:cNvSpPr/>
          <p:nvPr/>
        </p:nvSpPr>
        <p:spPr>
          <a:xfrm>
            <a:off x="527544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3)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838760" y="301680"/>
            <a:ext cx="313056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4543560" y="1378080"/>
            <a:ext cx="98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445608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2179800" y="5962680"/>
            <a:ext cx="4900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x + 10 = (3x + 5)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12"/>
          <p:cNvGrpSpPr/>
          <p:nvPr/>
        </p:nvGrpSpPr>
        <p:grpSpPr>
          <a:xfrm>
            <a:off x="5275440" y="3508200"/>
            <a:ext cx="411120" cy="459720"/>
            <a:chOff x="5275440" y="3508200"/>
            <a:chExt cx="411120" cy="459720"/>
          </a:xfrm>
        </p:grpSpPr>
        <p:sp>
          <p:nvSpPr>
            <p:cNvPr id="641" name="Text Box 13"/>
            <p:cNvSpPr/>
            <p:nvPr/>
          </p:nvSpPr>
          <p:spPr>
            <a:xfrm>
              <a:off x="527544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>
              <a:off x="531180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5"/>
          <p:cNvGrpSpPr/>
          <p:nvPr/>
        </p:nvGrpSpPr>
        <p:grpSpPr>
          <a:xfrm>
            <a:off x="6195960" y="3503520"/>
            <a:ext cx="411120" cy="459720"/>
            <a:chOff x="6195960" y="3503520"/>
            <a:chExt cx="411120" cy="459720"/>
          </a:xfrm>
        </p:grpSpPr>
        <p:sp>
          <p:nvSpPr>
            <p:cNvPr id="644" name="Text Box 16"/>
            <p:cNvSpPr/>
            <p:nvPr/>
          </p:nvSpPr>
          <p:spPr>
            <a:xfrm>
              <a:off x="61959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7"/>
            <p:cNvSpPr/>
            <p:nvPr/>
          </p:nvSpPr>
          <p:spPr>
            <a:xfrm>
              <a:off x="62323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19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48" name="Text Box 20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+ 5)( x +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Group 21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50" name="Text Box 22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23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4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53" name="Text Box 25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26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Line 27"/>
          <p:cNvSpPr/>
          <p:nvPr/>
        </p:nvSpPr>
        <p:spPr>
          <a:xfrm flipH="1">
            <a:off x="6151320" y="456084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8"/>
          <p:cNvSpPr/>
          <p:nvPr/>
        </p:nvSpPr>
        <p:spPr>
          <a:xfrm flipH="1">
            <a:off x="621792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9"/>
          <p:cNvSpPr/>
          <p:nvPr/>
        </p:nvSpPr>
        <p:spPr>
          <a:xfrm>
            <a:off x="614988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5)(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76"/>
          <p:cNvGrpSpPr/>
          <p:nvPr/>
        </p:nvGrpSpPr>
        <p:grpSpPr>
          <a:xfrm>
            <a:off x="1305000" y="3381480"/>
            <a:ext cx="3284640" cy="2298600"/>
            <a:chOff x="1305000" y="3381480"/>
            <a:chExt cx="3284640" cy="2298600"/>
          </a:xfrm>
        </p:grpSpPr>
        <p:sp>
          <p:nvSpPr>
            <p:cNvPr id="62" name="Line 21"/>
            <p:cNvSpPr/>
            <p:nvPr/>
          </p:nvSpPr>
          <p:spPr>
            <a:xfrm>
              <a:off x="1305000" y="3686040"/>
              <a:ext cx="328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 flipH="1">
              <a:off x="1905120" y="3381480"/>
              <a:ext cx="17280" cy="22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23"/>
          <p:cNvSpPr/>
          <p:nvPr/>
        </p:nvSpPr>
        <p:spPr>
          <a:xfrm>
            <a:off x="2379600" y="33051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312920" y="39625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457200" y="248436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5324400" y="4290840"/>
            <a:ext cx="26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8"/>
          <p:cNvGrpSpPr/>
          <p:nvPr/>
        </p:nvGrpSpPr>
        <p:grpSpPr>
          <a:xfrm>
            <a:off x="2124000" y="3794040"/>
            <a:ext cx="838080" cy="838440"/>
            <a:chOff x="2124000" y="3794040"/>
            <a:chExt cx="838080" cy="838440"/>
          </a:xfrm>
        </p:grpSpPr>
        <p:sp>
          <p:nvSpPr>
            <p:cNvPr id="71" name="Rectangle 35"/>
            <p:cNvSpPr/>
            <p:nvPr/>
          </p:nvSpPr>
          <p:spPr>
            <a:xfrm>
              <a:off x="2124000" y="379404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36"/>
            <p:cNvSpPr/>
            <p:nvPr/>
          </p:nvSpPr>
          <p:spPr>
            <a:xfrm>
              <a:off x="2352600" y="3946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47"/>
          <p:cNvGrpSpPr/>
          <p:nvPr/>
        </p:nvGrpSpPr>
        <p:grpSpPr>
          <a:xfrm>
            <a:off x="3002040" y="3795840"/>
            <a:ext cx="492120" cy="838080"/>
            <a:chOff x="3002040" y="3795840"/>
            <a:chExt cx="492120" cy="838080"/>
          </a:xfrm>
        </p:grpSpPr>
        <p:sp>
          <p:nvSpPr>
            <p:cNvPr id="74" name="Rectangle 37"/>
            <p:cNvSpPr/>
            <p:nvPr/>
          </p:nvSpPr>
          <p:spPr>
            <a:xfrm>
              <a:off x="3002040" y="379584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3036960" y="39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46"/>
          <p:cNvGrpSpPr/>
          <p:nvPr/>
        </p:nvGrpSpPr>
        <p:grpSpPr>
          <a:xfrm>
            <a:off x="2128680" y="4653000"/>
            <a:ext cx="839880" cy="460080"/>
            <a:chOff x="2128680" y="4653000"/>
            <a:chExt cx="839880" cy="460080"/>
          </a:xfrm>
        </p:grpSpPr>
        <p:sp>
          <p:nvSpPr>
            <p:cNvPr id="77" name="Rectangle 41"/>
            <p:cNvSpPr/>
            <p:nvPr/>
          </p:nvSpPr>
          <p:spPr>
            <a:xfrm>
              <a:off x="2128680" y="468612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3"/>
            <p:cNvSpPr/>
            <p:nvPr/>
          </p:nvSpPr>
          <p:spPr>
            <a:xfrm>
              <a:off x="2360520" y="465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5"/>
          <p:cNvGrpSpPr/>
          <p:nvPr/>
        </p:nvGrpSpPr>
        <p:grpSpPr>
          <a:xfrm>
            <a:off x="3006720" y="4686480"/>
            <a:ext cx="493560" cy="465840"/>
            <a:chOff x="3006720" y="4686480"/>
            <a:chExt cx="493560" cy="465840"/>
          </a:xfrm>
        </p:grpSpPr>
        <p:sp>
          <p:nvSpPr>
            <p:cNvPr id="80" name="Rectangle 42"/>
            <p:cNvSpPr/>
            <p:nvPr/>
          </p:nvSpPr>
          <p:spPr>
            <a:xfrm>
              <a:off x="3006720" y="46864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4"/>
            <p:cNvSpPr/>
            <p:nvPr/>
          </p:nvSpPr>
          <p:spPr>
            <a:xfrm>
              <a:off x="3043080" y="469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52"/>
          <p:cNvGrpSpPr/>
          <p:nvPr/>
        </p:nvGrpSpPr>
        <p:grpSpPr>
          <a:xfrm>
            <a:off x="3486240" y="3790800"/>
            <a:ext cx="492120" cy="838440"/>
            <a:chOff x="3486240" y="3790800"/>
            <a:chExt cx="492120" cy="838440"/>
          </a:xfrm>
        </p:grpSpPr>
        <p:sp>
          <p:nvSpPr>
            <p:cNvPr id="83" name="Rectangle 53"/>
            <p:cNvSpPr/>
            <p:nvPr/>
          </p:nvSpPr>
          <p:spPr>
            <a:xfrm>
              <a:off x="3486240" y="37908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54"/>
            <p:cNvSpPr/>
            <p:nvPr/>
          </p:nvSpPr>
          <p:spPr>
            <a:xfrm>
              <a:off x="3521160" y="3943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55"/>
          <p:cNvGrpSpPr/>
          <p:nvPr/>
        </p:nvGrpSpPr>
        <p:grpSpPr>
          <a:xfrm>
            <a:off x="3970440" y="3786120"/>
            <a:ext cx="492120" cy="838440"/>
            <a:chOff x="3970440" y="3786120"/>
            <a:chExt cx="492120" cy="838440"/>
          </a:xfrm>
        </p:grpSpPr>
        <p:sp>
          <p:nvSpPr>
            <p:cNvPr id="86" name="Rectangle 56"/>
            <p:cNvSpPr/>
            <p:nvPr/>
          </p:nvSpPr>
          <p:spPr>
            <a:xfrm>
              <a:off x="3970440" y="378612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57"/>
            <p:cNvSpPr/>
            <p:nvPr/>
          </p:nvSpPr>
          <p:spPr>
            <a:xfrm>
              <a:off x="4005360" y="3938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58"/>
          <p:cNvGrpSpPr/>
          <p:nvPr/>
        </p:nvGrpSpPr>
        <p:grpSpPr>
          <a:xfrm>
            <a:off x="2124000" y="5119560"/>
            <a:ext cx="839880" cy="460080"/>
            <a:chOff x="2124000" y="5119560"/>
            <a:chExt cx="839880" cy="460080"/>
          </a:xfrm>
        </p:grpSpPr>
        <p:sp>
          <p:nvSpPr>
            <p:cNvPr id="89" name="Rectangle 59"/>
            <p:cNvSpPr/>
            <p:nvPr/>
          </p:nvSpPr>
          <p:spPr>
            <a:xfrm>
              <a:off x="2124000" y="515268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60"/>
            <p:cNvSpPr/>
            <p:nvPr/>
          </p:nvSpPr>
          <p:spPr>
            <a:xfrm>
              <a:off x="2355840" y="5119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61"/>
          <p:cNvGrpSpPr/>
          <p:nvPr/>
        </p:nvGrpSpPr>
        <p:grpSpPr>
          <a:xfrm>
            <a:off x="3490920" y="4681440"/>
            <a:ext cx="493560" cy="466200"/>
            <a:chOff x="3490920" y="4681440"/>
            <a:chExt cx="493560" cy="466200"/>
          </a:xfrm>
        </p:grpSpPr>
        <p:sp>
          <p:nvSpPr>
            <p:cNvPr id="92" name="Rectangle 62"/>
            <p:cNvSpPr/>
            <p:nvPr/>
          </p:nvSpPr>
          <p:spPr>
            <a:xfrm>
              <a:off x="3490920" y="4681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63"/>
            <p:cNvSpPr/>
            <p:nvPr/>
          </p:nvSpPr>
          <p:spPr>
            <a:xfrm>
              <a:off x="3527280" y="468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64"/>
          <p:cNvGrpSpPr/>
          <p:nvPr/>
        </p:nvGrpSpPr>
        <p:grpSpPr>
          <a:xfrm>
            <a:off x="3975120" y="4694400"/>
            <a:ext cx="493560" cy="465840"/>
            <a:chOff x="3975120" y="4694400"/>
            <a:chExt cx="493560" cy="465840"/>
          </a:xfrm>
        </p:grpSpPr>
        <p:sp>
          <p:nvSpPr>
            <p:cNvPr id="95" name="Rectangle 65"/>
            <p:cNvSpPr/>
            <p:nvPr/>
          </p:nvSpPr>
          <p:spPr>
            <a:xfrm>
              <a:off x="3975120" y="46944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6"/>
            <p:cNvSpPr/>
            <p:nvPr/>
          </p:nvSpPr>
          <p:spPr>
            <a:xfrm>
              <a:off x="4011480" y="4700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67"/>
          <p:cNvGrpSpPr/>
          <p:nvPr/>
        </p:nvGrpSpPr>
        <p:grpSpPr>
          <a:xfrm>
            <a:off x="2998800" y="5145120"/>
            <a:ext cx="493560" cy="466200"/>
            <a:chOff x="2998800" y="5145120"/>
            <a:chExt cx="493560" cy="466200"/>
          </a:xfrm>
        </p:grpSpPr>
        <p:sp>
          <p:nvSpPr>
            <p:cNvPr id="98" name="Rectangle 68"/>
            <p:cNvSpPr/>
            <p:nvPr/>
          </p:nvSpPr>
          <p:spPr>
            <a:xfrm>
              <a:off x="2998800" y="5145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035160" y="515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70"/>
          <p:cNvGrpSpPr/>
          <p:nvPr/>
        </p:nvGrpSpPr>
        <p:grpSpPr>
          <a:xfrm>
            <a:off x="3483000" y="5140440"/>
            <a:ext cx="493560" cy="465840"/>
            <a:chOff x="3483000" y="5140440"/>
            <a:chExt cx="493560" cy="465840"/>
          </a:xfrm>
        </p:grpSpPr>
        <p:sp>
          <p:nvSpPr>
            <p:cNvPr id="101" name="Rectangle 71"/>
            <p:cNvSpPr/>
            <p:nvPr/>
          </p:nvSpPr>
          <p:spPr>
            <a:xfrm>
              <a:off x="3483000" y="5140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2"/>
            <p:cNvSpPr/>
            <p:nvPr/>
          </p:nvSpPr>
          <p:spPr>
            <a:xfrm>
              <a:off x="3519360" y="5146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73"/>
          <p:cNvGrpSpPr/>
          <p:nvPr/>
        </p:nvGrpSpPr>
        <p:grpSpPr>
          <a:xfrm>
            <a:off x="3967200" y="5153040"/>
            <a:ext cx="493560" cy="466200"/>
            <a:chOff x="3967200" y="5153040"/>
            <a:chExt cx="493560" cy="466200"/>
          </a:xfrm>
        </p:grpSpPr>
        <p:sp>
          <p:nvSpPr>
            <p:cNvPr id="104" name="Rectangle 74"/>
            <p:cNvSpPr/>
            <p:nvPr/>
          </p:nvSpPr>
          <p:spPr>
            <a:xfrm>
              <a:off x="3967200" y="51530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5"/>
            <p:cNvSpPr/>
            <p:nvPr/>
          </p:nvSpPr>
          <p:spPr>
            <a:xfrm>
              <a:off x="4003560" y="515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Місце для нижнього колонтитула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1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38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16" name="Rectangle 39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0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41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19" name="Rectangle 42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3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4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22" name="Rectangle 45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6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25" name="Rectangle 48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0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28" name="Rectangle 51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2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131" name="Rectangle 54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5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56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134" name="Rectangle 57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59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137" name="Rectangle 60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61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62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140" name="Rectangle 63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64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65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143" name="Rectangle 66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7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68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146" name="Rectangle 69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0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1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149" name="Rectangle 72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74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152" name="Rectangle 75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7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155" name="Rectangle 78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9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80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158" name="Rectangle 81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82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83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161" name="Rectangle 84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85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86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164" name="Rectangle 87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88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89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167" name="Rectangle 90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91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92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170" name="Rectangle 93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4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95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173" name="Rectangle 96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97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Місце для нижнього колонтитула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79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85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88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91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94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9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0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0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31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206" name="Rectangle 32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09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12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15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18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21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24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27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30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233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236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64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239" name="Rectangle 65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66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67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242" name="Rectangle 68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69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1"/>
          <p:cNvSpPr/>
          <p:nvPr/>
        </p:nvSpPr>
        <p:spPr>
          <a:xfrm>
            <a:off x="4218120" y="5815080"/>
            <a:ext cx="46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25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256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259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262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265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268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71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74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77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80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83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86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89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92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95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98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01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304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64"/>
          <p:cNvGrpSpPr/>
          <p:nvPr/>
        </p:nvGrpSpPr>
        <p:grpSpPr>
          <a:xfrm>
            <a:off x="7846920" y="4707000"/>
            <a:ext cx="493560" cy="465840"/>
            <a:chOff x="7846920" y="4707000"/>
            <a:chExt cx="493560" cy="465840"/>
          </a:xfrm>
        </p:grpSpPr>
        <p:sp>
          <p:nvSpPr>
            <p:cNvPr id="307" name="Rectangle 65"/>
            <p:cNvSpPr/>
            <p:nvPr/>
          </p:nvSpPr>
          <p:spPr>
            <a:xfrm>
              <a:off x="7846920" y="47070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66"/>
            <p:cNvSpPr/>
            <p:nvPr/>
          </p:nvSpPr>
          <p:spPr>
            <a:xfrm>
              <a:off x="7883280" y="4713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67"/>
          <p:cNvGrpSpPr/>
          <p:nvPr/>
        </p:nvGrpSpPr>
        <p:grpSpPr>
          <a:xfrm>
            <a:off x="7846920" y="4219560"/>
            <a:ext cx="493560" cy="466200"/>
            <a:chOff x="7846920" y="4219560"/>
            <a:chExt cx="493560" cy="466200"/>
          </a:xfrm>
        </p:grpSpPr>
        <p:sp>
          <p:nvSpPr>
            <p:cNvPr id="310" name="Rectangle 68"/>
            <p:cNvSpPr/>
            <p:nvPr/>
          </p:nvSpPr>
          <p:spPr>
            <a:xfrm>
              <a:off x="784692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69"/>
            <p:cNvSpPr/>
            <p:nvPr/>
          </p:nvSpPr>
          <p:spPr>
            <a:xfrm>
              <a:off x="788328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1"/>
          <p:cNvSpPr/>
          <p:nvPr/>
        </p:nvSpPr>
        <p:spPr>
          <a:xfrm>
            <a:off x="4857840" y="57434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72"/>
          <p:cNvGrpSpPr/>
          <p:nvPr/>
        </p:nvGrpSpPr>
        <p:grpSpPr>
          <a:xfrm>
            <a:off x="7856640" y="3333600"/>
            <a:ext cx="492120" cy="838440"/>
            <a:chOff x="7856640" y="3333600"/>
            <a:chExt cx="492120" cy="838440"/>
          </a:xfrm>
        </p:grpSpPr>
        <p:sp>
          <p:nvSpPr>
            <p:cNvPr id="315" name="Rectangle 73"/>
            <p:cNvSpPr/>
            <p:nvPr/>
          </p:nvSpPr>
          <p:spPr>
            <a:xfrm>
              <a:off x="785664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74"/>
            <p:cNvSpPr/>
            <p:nvPr/>
          </p:nvSpPr>
          <p:spPr>
            <a:xfrm>
              <a:off x="789156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Line 75"/>
          <p:cNvSpPr/>
          <p:nvPr/>
        </p:nvSpPr>
        <p:spPr>
          <a:xfrm flipH="1" flipV="1">
            <a:off x="5060880" y="5062680"/>
            <a:ext cx="10800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4064040" y="2668680"/>
            <a:ext cx="3747960" cy="3214080"/>
            <a:chOff x="4064040" y="2668680"/>
            <a:chExt cx="3747960" cy="3214080"/>
          </a:xfrm>
        </p:grpSpPr>
        <p:sp>
          <p:nvSpPr>
            <p:cNvPr id="322" name="Line 5"/>
            <p:cNvSpPr/>
            <p:nvPr/>
          </p:nvSpPr>
          <p:spPr>
            <a:xfrm>
              <a:off x="4064040" y="3260880"/>
              <a:ext cx="37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454824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28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331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334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33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34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34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346" name="Rectangle 32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3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349" name="Rectangle 35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6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352" name="Rectangle 38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40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355" name="Rectangle 41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3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358" name="Rectangle 44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45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46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361" name="Rectangle 47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48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49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364" name="Rectangle 50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51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52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367" name="Rectangle 53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54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55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70" name="Rectangle 56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57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58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373" name="Rectangle 59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60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61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376" name="Rectangle 62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63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64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379" name="Rectangle 65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66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Rectangle 67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8"/>
          <p:cNvSpPr/>
          <p:nvPr/>
        </p:nvSpPr>
        <p:spPr>
          <a:xfrm>
            <a:off x="5054760" y="6031080"/>
            <a:ext cx="210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73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384" name="Rectangle 74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75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76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387" name="Rectangle 77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78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4081320" y="2668680"/>
            <a:ext cx="3533760" cy="3214080"/>
            <a:chOff x="4081320" y="2668680"/>
            <a:chExt cx="3533760" cy="3214080"/>
          </a:xfrm>
        </p:grpSpPr>
        <p:sp>
          <p:nvSpPr>
            <p:cNvPr id="393" name="Line 5"/>
            <p:cNvSpPr/>
            <p:nvPr/>
          </p:nvSpPr>
          <p:spPr>
            <a:xfrm>
              <a:off x="4081320" y="3260880"/>
              <a:ext cx="35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453816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"/>
          <p:cNvSpPr/>
          <p:nvPr/>
        </p:nvSpPr>
        <p:spPr>
          <a:xfrm>
            <a:off x="289080" y="2973240"/>
            <a:ext cx="327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270000" y="4829040"/>
            <a:ext cx="33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99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402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405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408" name="Rectangle 20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21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2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411" name="Rectangle 23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24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25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414" name="Rectangle 26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27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417" name="Rectangle 29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30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1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420" name="Rectangle 32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33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Group 34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423" name="Rectangle 35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36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37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426" name="Rectangle 38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9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429" name="Rectangle 41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43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432" name="Rectangle 44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45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46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435" name="Rectangle 47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8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438" name="Rectangle 50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51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441" name="Rectangle 53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54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444" name="Rectangle 56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57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447" name="Rectangle 59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60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450" name="Rectangle 62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63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Text Box 65"/>
          <p:cNvSpPr/>
          <p:nvPr/>
        </p:nvSpPr>
        <p:spPr>
          <a:xfrm>
            <a:off x="3838680" y="6031080"/>
            <a:ext cx="4611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7x + 12 = ( x + 4)( x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66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454" name="Rectangle 67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68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69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457" name="Rectangle 70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1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Text Box 72"/>
          <p:cNvSpPr/>
          <p:nvPr/>
        </p:nvSpPr>
        <p:spPr>
          <a:xfrm>
            <a:off x="4898880" y="28274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3"/>
          <p:cNvSpPr/>
          <p:nvPr/>
        </p:nvSpPr>
        <p:spPr>
          <a:xfrm>
            <a:off x="5473800" y="2825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4"/>
          <p:cNvSpPr/>
          <p:nvPr/>
        </p:nvSpPr>
        <p:spPr>
          <a:xfrm>
            <a:off x="4127400" y="347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75"/>
          <p:cNvSpPr/>
          <p:nvPr/>
        </p:nvSpPr>
        <p:spPr>
          <a:xfrm>
            <a:off x="4113360" y="4100400"/>
            <a:ext cx="33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630440" y="124452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, we wi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436760" y="2459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75"/>
          <p:cNvSpPr/>
          <p:nvPr/>
        </p:nvSpPr>
        <p:spPr>
          <a:xfrm>
            <a:off x="750960" y="3475080"/>
            <a:ext cx="66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rm has no coefficient (other than 1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76"/>
          <p:cNvSpPr/>
          <p:nvPr/>
        </p:nvSpPr>
        <p:spPr>
          <a:xfrm>
            <a:off x="720720" y="500544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7"/>
          <p:cNvSpPr/>
          <p:nvPr/>
        </p:nvSpPr>
        <p:spPr>
          <a:xfrm>
            <a:off x="3435120" y="407988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8"/>
          <p:cNvSpPr/>
          <p:nvPr/>
        </p:nvSpPr>
        <p:spPr>
          <a:xfrm>
            <a:off x="5491080" y="500868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6:12:12Z</dcterms:created>
  <dc:creator>Joyce DuVall</dc:creator>
  <dc:description/>
  <dc:language>en-US</dc:language>
  <cp:lastModifiedBy>LEGION</cp:lastModifiedBy>
  <dcterms:modified xsi:type="dcterms:W3CDTF">2017-07-06T06:33:49Z</dcterms:modified>
  <cp:revision>23</cp:revision>
  <dc:subject/>
  <dc:title>PowerPoint Presentation</dc:title>
</cp:coreProperties>
</file>